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9ED1-F564-4116-8450-596797171CA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eacher reads out the definitions and MUST keep a record of the word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DFF-5088-4926-9EBE-4ED7CB57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E1E-B50F-40AF-BC02-8BCE8154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79FE-7E43-42BE-84E6-23B2597C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64A6-1F43-4069-AC54-EA0463CD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B5A9-B423-4EDD-B446-24C8A5BB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5638-864B-4807-BBD1-522FEF7D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8EBA-EC3D-4558-BEDD-87E9204E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B691-C5E3-4FC6-82CF-4FEC107D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D10A-9E63-40D8-BE9D-AD743BEB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769C-6DB8-43DA-B327-173E9D83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54C0-C960-43C1-B8E0-4D7DE332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CF7A-6295-4D8B-837E-8313A18F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99F5-2506-4F4B-87A8-C60D0D25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AF14-E9C5-4485-AFDD-C3B516B3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236B-675B-4C40-821E-E6F45695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8D1A-30EA-4984-B965-5EE644E0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EBDF-8A4D-408D-AB56-9042EC24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4B32-847D-4138-B87E-0BFAFF02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75C-A8BF-45F0-A485-A4240A47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0188-18C2-420D-AEDF-3EB74956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D41-FBD0-4D73-8681-CA7D0447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C19-4533-4AAA-BED6-92349450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7729-2FD7-43A8-9B67-FC973C8D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34C-8B67-45C1-A543-50EC93DD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4244-0253-4505-B90F-F01664EB238B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7AB1-2531-43A1-99FD-C9ECB9A6D100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14400" y="1371600"/>
            <a:ext cx="70102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rective Terms Bing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Draw up a table with three columns and rows </a:t>
            </a:r>
            <a:r>
              <a:rPr b="0" lang="en-GB" sz="2800" spc="-1" strike="noStrike">
                <a:solidFill>
                  <a:srgbClr val="006633"/>
                </a:solidFill>
                <a:latin typeface="Garamond"/>
              </a:rPr>
              <a:t>and put a directive term from the following slide in each of the 9 boxes on your bingo card</a:t>
            </a:r>
            <a:br>
              <a:rPr sz="2800"/>
            </a:br>
            <a:br>
              <a:rPr sz="3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sure you know what that word means because you need to know to wi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t BINGO when you have a line or a FULL HOUS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52480" y="1828800"/>
          <a:ext cx="5257440" cy="1980720"/>
        </p:xfrm>
        <a:graphic>
          <a:graphicData uri="http://schemas.openxmlformats.org/drawingml/2006/table">
            <a:tbl>
              <a:tblPr/>
              <a:tblGrid>
                <a:gridCol w="1752840"/>
                <a:gridCol w="1752120"/>
                <a:gridCol w="1752480"/>
              </a:tblGrid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Garamond"/>
              </a:rPr>
              <a:t>Choose </a:t>
            </a: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9</a:t>
            </a:r>
            <a:r>
              <a:rPr b="0" lang="en-US" sz="3000" spc="-1" strike="noStrike">
                <a:solidFill>
                  <a:srgbClr val="006633"/>
                </a:solidFill>
                <a:latin typeface="Garamond"/>
              </a:rPr>
              <a:t> directive terms from the following 14 below.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ccount            Analyse                 Critically   Define             Demonstr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scribe                  Discuss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inguish                          Evaluate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plain                                        Identify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Justify             Outline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ommend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GM</dc:creator>
  <dc:description/>
  <dc:language>en-US</dc:language>
  <cp:lastModifiedBy>Shore</cp:lastModifiedBy>
  <dcterms:modified xsi:type="dcterms:W3CDTF">2009-02-27T02:12:1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